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7AE-1AD7-46A0-A09E-2490FCE0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4D4B-C443-4DFF-A71D-4CF67CD0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A16-57F7-4D5B-A2B1-FFDB3D34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BBB4-8532-4C04-B829-CC7AEB03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5D00-E7B3-42D0-998C-69909D88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7FAE-DB13-4C1C-B7F7-2C3951C6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7212-9D1C-4113-8339-594ABA8B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1B3F-2D79-46C6-871E-BA087465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FB9A-B8A2-4C6C-8B13-D0116CD1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BF00-C8CD-42D3-A101-AC854C41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BE2E-DA6C-465C-BF13-EA78A014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5F2D-CC4F-474A-B2B5-1ECF4247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4311-0777-4BB0-9A40-C35EF972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9EFE-3663-4F35-BF37-5384CE6E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F4E6-DF59-4308-BD70-EB0EA438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A6E2-9599-4286-9ACF-F8F1DA7A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C460-2E7E-4B2C-8CDD-32A54BCD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49D-9E84-4AEF-8BEE-4E81D9A3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0FF-6180-4465-AA07-485E0D08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C85-A866-4E2E-88D2-A64608C9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AA4F-3C2F-420A-9216-3759DA17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98D6-DC10-4378-9B3D-B1CFFF45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543-4076-4B12-9E4E-D301AC2F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AFD-1212-41D3-A974-0A1C5BDA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5744-759D-45CD-B41A-25B99D805B1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BDB9-F933-4D61-9AD4-589567C8E155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TAREAS DEL ALUMN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627280" y="2852640"/>
            <a:ext cx="3527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bservaci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Entorn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entr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la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laboraci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lanificació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ervenci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flexi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Picture 4" descr="ual_escudo"/>
          <p:cNvPicPr/>
          <p:nvPr/>
        </p:nvPicPr>
        <p:blipFill>
          <a:blip r:embed="rId1"/>
          <a:stretch/>
        </p:blipFill>
        <p:spPr>
          <a:xfrm>
            <a:off x="0" y="0"/>
            <a:ext cx="1116000" cy="1106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1979640" y="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Universidad de Almería. Curso 11/12. Practicum II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5184720" y="645336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Mauricio Rodríguez (maurirrr@ual.es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bservación del centr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Situación geográfica, socioeconómica y cultural de la zon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Origen socioeconómico y cultural de las familias (a través de los alumno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Tipo de centr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Etapas educativas que atiend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Número de líneas que lo constituy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Número de alumnos que aco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Número de profesores y situació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Tipo y número de espacios disponib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Recursos materia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bservación del centr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tructura del centro (equipo directivo, claustro, departamentos didácticos, comisiones, coordinaciones…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articipación de otras entidades (AMPA, Consejo Escolar, Asociaciones…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Otros servicios escolares (comedor, transporte, atención extraescolar…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ctividades complementarias (deportivas, culturales, musicales…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bservación del Regla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2360160"/>
            <a:ext cx="82263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rmas de convivenc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royecto de convivenc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royecto “Escuela espacio de paz” (si hubier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lan LEC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rmas para el uso de los espaci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bservación de la cl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Ubicación dentro del centro (dimensiones, iluminación, rincones, zonas de trabajo y juego…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stribución del mobiliario (mesas, armarios, recursos, equipos informáticos…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iterio para ubicación del alumna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Biblioteca de aula (si hubiera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scoteca de aula/Material Lab./Mat. Ed. Físic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cursos multimedia (si hubiera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bservación de la cl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stribución de la jornada escol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Horario escol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cursos didácticos asociados al horario (tareas de primera hora, en cambios de actividad, al volver del recreo, al final de la mañan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Observación de la clase: dinámicas de grup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ormación y/o existencia de grupos y subgrup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resencia de líde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Grado de aceptación en el grup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omento de la participaci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umplimiento de las norm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stribución de responsabilidad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operación en actividad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lación profesor-alumn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Observación de la clase: características psicológic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Arial"/>
              </a:rPr>
              <a:t>Características familiares (estudio padres, nº hermanos, profesione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Arial"/>
              </a:rPr>
              <a:t>Grado de autonomía person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Arial"/>
              </a:rPr>
              <a:t>Hábitos de higiene y aliment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Habilidades motrices básic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Participación en juego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Desarrollo motriz (coordinación, motricidad fina y gruesa…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Interés y motivación hacia el aprendiza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Destrezas lingüístic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Autoestima, respeto a las reglas, actitudes hacia los compañeros, …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NEAE (Alumnos con Necesidades Específicas de Apoyo Educativo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ERVENCIÓN EDUCATI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rogramación escri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Uso de medios didáctic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aboración de los materiales necesari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Buscar estrategias de motivación y atenci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Buscar estrategias para fomentar la creatividad y crear hábitos de orden y limpiez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cursos para la evaluació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268360" y="57340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Ver documento sobre los elementos esenciales de la unidad didáctic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7:10:43Z</dcterms:created>
  <dc:creator>iquesada</dc:creator>
  <dc:description/>
  <dc:language>en-US</dc:language>
  <cp:lastModifiedBy>mauri</cp:lastModifiedBy>
  <dcterms:modified xsi:type="dcterms:W3CDTF">2012-02-29T05:33:11Z</dcterms:modified>
  <cp:revision>11</cp:revision>
  <dc:subject/>
  <dc:title>TAREAS DEL ALUMNO</dc:title>
</cp:coreProperties>
</file>